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70C-6AB7-4E34-8631-E7B08C3B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AC7-97B9-43E4-9569-4351E4A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DA3-3BDD-4868-BCC1-C005DAF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274-EBD2-4314-8333-854C946A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C97-AAFE-4B54-A85D-85211ACC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C4D-735D-43ED-988E-ADF039A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B4C-8F5A-4DF9-9882-1EEBA66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517-7540-4B4A-A450-7F6A5E3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CF3-001B-4CAB-B964-35BABCB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815-AFD1-42C5-BB7F-121ACE0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647-CF83-4F4B-B99A-D483036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7CF-8BE7-4EB0-9029-B0DC91E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FCF-DEC3-4CFB-A49B-0A924CFA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 1aprili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52592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– 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35120"/>
          <a:ext cx="8196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35120"/>
                    <a:ext cx="8196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8T18:20:52Z</dcterms:modified>
  <cp:revision>4</cp:revision>
  <dc:subject/>
  <dc:title>Curs valutar</dc:title>
</cp:coreProperties>
</file>